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the Ontario curriculum document, the Mathematical Processes package, and/or the DI Mathematical Processes cards to help you determine the process expectation(s) that could be explicitly taught through this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the Ontario curriculum document, the Mathematical Processes package, and/or the DI Mathematical Processes cards to help you determine the process expectation(s) that could be explicitly taught through this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is the centre point of the placemat from the introductory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select either learning goals or success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a group, revisit your initial definitions on your Placement and draw on your learning from this Breakout session to create a Frayer Model for one of the terms explored today, i.e. Learning Goals, Success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your personal think space, capture some of your key learnings and/or prior knowledge about ___________________.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e.g., Learning Goals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Success Crite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his as a diagnostic for participant’s comfort level with success criteria and learning goals – have participant’s choose either for their placemat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discuss these terms now, we will do some work around them and discuss them in more detail at the end of this Breakout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ue is about the mathematics (the wh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llow is about process expectations (the how of their ability to support the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ccess criteria does not need to be all of thes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owledge and Understanding always has to be present, which process you focus on to support the knowledge and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s a group, use the 11x17 template provided to record your thi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e are going to complete the template in chu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e ready to stop and discuss your thinking along th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ider using the Proportional Reasoning package/Ontario Curriculum  provided to support your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D4A4-9267-4AD2-9A53-5AE98DCA8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F301-A03A-429D-9739-046858662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5BD1-E3F8-486A-BFF2-E8B9C6776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E426-F30A-4225-98CE-094FC21B2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49E9-EC02-4691-BF9D-3671ABC52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EE23-663A-405E-ABE2-4377FFF2C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CE8-490A-4868-8113-04C14A0E2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7F4E-908D-4502-A52A-B9053F3DF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4162-E159-4048-ABE9-CC12E9720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7392-113D-4EE3-8A7A-ABFF94D50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AE6C-BD90-4705-B5BD-6FF65FE62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DBEE-B276-4511-9206-8F3A5F662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FFB-C33F-4DD8-9BE6-2EEC4E03E0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717-DEEE-4CB1-8A45-660CD2AF8C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144-20EB-4EAC-A4CE-8DC6F72782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 flipH="1" flipV="1">
            <a:off x="5485680" y="2666520"/>
            <a:ext cx="686520" cy="153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8"/>
          <p:cNvSpPr/>
          <p:nvPr/>
        </p:nvSpPr>
        <p:spPr>
          <a:xfrm>
            <a:off x="6172200" y="25401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904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Success Document p.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0AC-F365-4BCE-AB99-C738952B70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848720" y="76320"/>
            <a:ext cx="12952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984-0258-450D-9C2D-F18BCDFB43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7"/>
          <p:cNvCxnSpPr/>
          <p:nvPr/>
        </p:nvCxnSpPr>
        <p:spPr>
          <a:xfrm flipH="1" flipV="1">
            <a:off x="4494960" y="3428280"/>
            <a:ext cx="686520" cy="153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8"/>
          <p:cNvSpPr/>
          <p:nvPr/>
        </p:nvSpPr>
        <p:spPr>
          <a:xfrm>
            <a:off x="5410080" y="3200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Success Document p.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E09-5FBE-4A80-8F73-3085358A43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848720" y="76320"/>
            <a:ext cx="12952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Processes  and the Achievement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2DB3-EE2E-4DBF-84C4-C4A76668CD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sp>
        <p:nvSpPr>
          <p:cNvPr id="144" name="Cloud Callout 5"/>
          <p:cNvSpPr/>
          <p:nvPr/>
        </p:nvSpPr>
        <p:spPr>
          <a:xfrm>
            <a:off x="2666880" y="2590920"/>
            <a:ext cx="50292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r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Congre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FB0-20BF-4581-A562-C187A71FF4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sandra.fraser\Desktop\Beach Images\Barbeques &amp; Picnics\Parachute Fun 2.wmf"/>
          <p:cNvPicPr/>
          <p:nvPr/>
        </p:nvPicPr>
        <p:blipFill>
          <a:blip r:embed="rId2"/>
          <a:stretch/>
        </p:blipFill>
        <p:spPr>
          <a:xfrm>
            <a:off x="1371600" y="1881360"/>
            <a:ext cx="609588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EA55-3331-43B7-B967-A79E91C306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0" y="4267080"/>
            <a:ext cx="15238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2A2-A088-4B58-B8FA-B551A59B1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380880" y="1447920"/>
            <a:ext cx="815364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2895480" y="2819520"/>
            <a:ext cx="31244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2"/>
          <p:cNvSpPr/>
          <p:nvPr/>
        </p:nvSpPr>
        <p:spPr>
          <a:xfrm>
            <a:off x="4457880" y="1447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5"/>
          <p:cNvSpPr/>
          <p:nvPr/>
        </p:nvSpPr>
        <p:spPr>
          <a:xfrm>
            <a:off x="44686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8"/>
          <p:cNvSpPr/>
          <p:nvPr/>
        </p:nvSpPr>
        <p:spPr>
          <a:xfrm>
            <a:off x="6019920" y="3390840"/>
            <a:ext cx="2514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20"/>
          <p:cNvSpPr/>
          <p:nvPr/>
        </p:nvSpPr>
        <p:spPr>
          <a:xfrm>
            <a:off x="380880" y="3429000"/>
            <a:ext cx="25146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160020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5029200" y="1447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5486400" y="4948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1676520" y="4948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 – Building Learning Goals and 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D22-47A6-44E2-9BC7-486AF737B8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sandra.fraser\Desktop\Beach Images\Beach &amp; Water (R - Su)\Snorkeler &amp; Starfish.wmf"/>
          <p:cNvPicPr/>
          <p:nvPr/>
        </p:nvPicPr>
        <p:blipFill>
          <a:blip r:embed="rId2"/>
          <a:stretch/>
        </p:blipFill>
        <p:spPr>
          <a:xfrm>
            <a:off x="2133720" y="3124080"/>
            <a:ext cx="52783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tend our understanding of the big ideas of proportional reasoning through a hands-on mathematical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and experiment with learning goals and success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67AB-DA05-4AD4-89EC-34A1009567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FD9-9E00-4E55-9A1F-55F05823A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C:\Documents and Settings\sandra.fraser\Desktop\Beach Images\Beach &amp; Water (R - Su)\Snorkeler 30.wmf"/>
          <p:cNvPicPr/>
          <p:nvPr/>
        </p:nvPicPr>
        <p:blipFill>
          <a:blip r:embed="rId2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lace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C8C-92AC-47CB-95BD-31CACCE472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8"/>
          <p:cNvSpPr/>
          <p:nvPr/>
        </p:nvSpPr>
        <p:spPr>
          <a:xfrm>
            <a:off x="838080" y="1371600"/>
            <a:ext cx="7696440" cy="4114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>
            <a:off x="3276720" y="2854440"/>
            <a:ext cx="281916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1"/>
          <p:cNvSpPr/>
          <p:nvPr/>
        </p:nvSpPr>
        <p:spPr>
          <a:xfrm>
            <a:off x="4686480" y="1371600"/>
            <a:ext cx="0" cy="148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"/>
          <p:cNvSpPr/>
          <p:nvPr/>
        </p:nvSpPr>
        <p:spPr>
          <a:xfrm flipV="1">
            <a:off x="4686480" y="3997440"/>
            <a:ext cx="0" cy="14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5"/>
          <p:cNvSpPr/>
          <p:nvPr/>
        </p:nvSpPr>
        <p:spPr>
          <a:xfrm>
            <a:off x="6095880" y="3425760"/>
            <a:ext cx="2438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V="1">
            <a:off x="838080" y="3425400"/>
            <a:ext cx="2438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3429000" y="3195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nk-ta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5105520" y="4343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0000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1143000" y="4346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b050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 flipV="1">
            <a:off x="4343400" y="1982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6600ff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 flipV="1">
            <a:off x="533520" y="1982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00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monade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2083-FC53-4A07-B36A-3B81EAAB73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sandra.fraser\Desktop\Beach Images\Beach &amp; Water (Su - Sw)\Sunbathing 58.wmf"/>
          <p:cNvPicPr/>
          <p:nvPr/>
        </p:nvPicPr>
        <p:blipFill>
          <a:blip r:embed="rId2"/>
          <a:stretch/>
        </p:blipFill>
        <p:spPr>
          <a:xfrm>
            <a:off x="2286000" y="1371600"/>
            <a:ext cx="464832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903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monade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921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andra and Erik are in charge of making lemonade for the beach par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y make the lemonade by using lemon juice concentrate and mixing it with wa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Unfortunately, they forgot to bring the recipe to the beach party, so they try a few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ich mixture will be the most lemony?  How do you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C07-4F36-4D4C-919C-F1460961C7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029200" y="25146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85800" y="25146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85800" y="38862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8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029200" y="38862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5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8047080" y="152280"/>
            <a:ext cx="10969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monade Problem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ndra was mixing herself a glass of lemonade. “You certainly have enough lemon juice concentrate in the glass,” remarked Erik, who then began to prepare 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drink.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Only a third of a glass of lemon juice concentrate,” said Sandra. “And you’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ly taking your share.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I only have one-fourth of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,” estimated Erik.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But Erik, your glass hol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!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Tell you what…” said Erik, after they both had mixed lemon juice concentrate and water in their glasses. “Let’s combine our drinks in a larger pitcher, and then split the wh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.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ile Sandra is trying to decide whether or not this arrangement is to her advantage, can you say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part of the combined mixture would be more lemo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CFCA-6264-4F87-918C-D9C3EBB44F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848720" y="76320"/>
            <a:ext cx="12952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133720"/>
                <a:gridCol w="1401840"/>
                <a:gridCol w="807840"/>
                <a:gridCol w="1828800"/>
                <a:gridCol w="381240"/>
                <a:gridCol w="22860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B836-369F-4D4E-8479-7BABE65BF2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420-5918-459E-9C9B-CED2A08228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1"/>
          <p:cNvCxnSpPr/>
          <p:nvPr/>
        </p:nvCxnSpPr>
        <p:spPr>
          <a:xfrm flipH="1" flipV="1">
            <a:off x="913680" y="1218960"/>
            <a:ext cx="610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TextBox 13"/>
          <p:cNvSpPr/>
          <p:nvPr/>
        </p:nvSpPr>
        <p:spPr>
          <a:xfrm>
            <a:off x="1523880" y="13971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4"/>
          <p:cNvCxnSpPr/>
          <p:nvPr/>
        </p:nvCxnSpPr>
        <p:spPr>
          <a:xfrm flipH="1" flipV="1">
            <a:off x="5485680" y="1218960"/>
            <a:ext cx="610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8"/>
          <p:cNvCxnSpPr/>
          <p:nvPr/>
        </p:nvCxnSpPr>
        <p:spPr>
          <a:xfrm flipV="1">
            <a:off x="6476760" y="1218960"/>
            <a:ext cx="610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23"/>
          <p:cNvSpPr/>
          <p:nvPr/>
        </p:nvSpPr>
        <p:spPr>
          <a:xfrm>
            <a:off x="5943600" y="1600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cxnSp>
        <p:nvCxnSpPr>
          <p:cNvPr id="112" name="Straight Arrow Connector 8"/>
          <p:cNvCxnSpPr/>
          <p:nvPr/>
        </p:nvCxnSpPr>
        <p:spPr>
          <a:xfrm flipH="1" flipV="1">
            <a:off x="685080" y="3961800"/>
            <a:ext cx="686520" cy="153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10"/>
          <p:cNvSpPr/>
          <p:nvPr/>
        </p:nvSpPr>
        <p:spPr>
          <a:xfrm>
            <a:off x="1371600" y="3809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7T15:18:06Z</dcterms:modified>
  <cp:revision>247</cp:revision>
  <dc:subject/>
  <dc:title>&lt;Title&gt;</dc:title>
</cp:coreProperties>
</file>